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7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B53DA-7040-4B9B-B2C9-90F30F664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EB02E-545B-4048-9AED-980C1DE96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B4A16-93BD-4B83-B9B8-DB87F7FD8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8BA6-0ED3-4C43-950E-6853ACCE4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52BA8-E1A1-4E43-8F96-E51B7B974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69ECD-3E64-44AE-9C05-5E8CF4B60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81F77-4784-43F3-8780-7564679C8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F83F7-2846-4F22-9485-F3D9DA5BB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F682A-E5B0-4448-8F59-952BAAAA3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3266A-9DDE-4B34-90CC-7633A57F7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DF790-AFB4-4168-9B8F-FABB64E27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5A9C0-87A4-4B55-B987-C609E9270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D91F6-B214-471E-9292-B29981FCF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049D3-AEC3-4F87-9717-2D8B8367E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8A77-9261-4BAD-8059-49E814789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4ED3-038C-4D85-A4FB-CE528D80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04E3-E877-4CE2-B9C9-74084FA8A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646B-603A-4DF3-949F-2DC55320D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4C73-24E9-479A-B07D-6B96F22C3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1EBB-01E9-4D2D-A95C-9CF805DA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5D45-E560-4330-896A-D94414A34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6CAB-DD26-4648-A49D-0DF44DC0B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03DD-B425-4E85-8FA4-ED4CE5DE4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65B7-34B7-413A-B8B8-25334F8B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85C2-CDEF-4383-B77D-AF562AA3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2170-01C2-4A95-8CB4-32068BD5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37292-10F1-4DC6-AC17-3F0802301BB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GREAT DEPRESSION AND THE NEW DE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pter 2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cial Effect on the Great Depre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rain on Socie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oover claims, “no one has starved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ardship affected all classes but middle class was hit the hardest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ousands of young homeless, jobless (25%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ildren quit high school to support famil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omen and African Americans are discriminated against for taking jobs!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0948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other, Can You Spare a Dime," lyrics by Yip Harburg, music by Jay Gorney (193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6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y used to tell me I was building a dream, and so I followed the mob,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26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hen there was earth to plow, or guns to bear, I was always there right on the job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26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y used to tell me I was building a dream, with peace and glory ahead,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26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hy should I be standing in line, just waiting for bread?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26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26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nce I built a railroad, I made it run, made it race against time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26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nce I built a railroad; now it's done. Brother, can you spare a dime?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26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nce I built a tower, up to the sun, brick, and rivet, and lime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26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nce I built a tower, now it's done. Brother, can you spare a dime?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26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26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nce in khaki suits, gee we looked swell,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26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ull of that Yankee Doodly Dum,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26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alf a million boots went slogging through Hell,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26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d I was the kid with the drum!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26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26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ay, don't you remember, they called me Al; it was Al all the time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26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hy don't you remember, I'm your pal? Buddy, can you spare a dime?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26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26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nce in khaki suits, gee we looked swell,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26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ull of that Yankee Doodly Dum,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26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alf a million boots went slogging through Hell,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26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d I was the kid with the drum!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26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26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ay, don't you remember, they called me Al; it was Al all the time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26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ay, don't you remember, I'm your pal? Buddy, can you spare a di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MacOS" descr=""/>
          <p:cNvPicPr/>
          <p:nvPr/>
        </p:nvPicPr>
        <p:blipFill>
          <a:blip r:embed="rId2"/>
          <a:stretch/>
        </p:blipFill>
        <p:spPr>
          <a:xfrm>
            <a:off x="8737560" y="6451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50979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4952880" y="233676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e you sure Hoove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0" descr=""/>
          <p:cNvPicPr/>
          <p:nvPr/>
        </p:nvPicPr>
        <p:blipFill>
          <a:blip r:embed="rId2"/>
          <a:stretch/>
        </p:blipFill>
        <p:spPr>
          <a:xfrm>
            <a:off x="1155600" y="4114800"/>
            <a:ext cx="2870280" cy="1981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6" descr=""/>
          <p:cNvPicPr/>
          <p:nvPr/>
        </p:nvPicPr>
        <p:blipFill>
          <a:blip r:embed="rId3"/>
          <a:stretch/>
        </p:blipFill>
        <p:spPr>
          <a:xfrm>
            <a:off x="1797120" y="1981080"/>
            <a:ext cx="1587600" cy="1981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7" descr=""/>
          <p:cNvPicPr/>
          <p:nvPr/>
        </p:nvPicPr>
        <p:blipFill>
          <a:blip r:embed="rId4"/>
          <a:stretch/>
        </p:blipFill>
        <p:spPr>
          <a:xfrm>
            <a:off x="5799240" y="1981080"/>
            <a:ext cx="1508040" cy="1981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9" descr=""/>
          <p:cNvPicPr/>
          <p:nvPr/>
        </p:nvPicPr>
        <p:blipFill>
          <a:blip r:embed="rId5"/>
          <a:stretch/>
        </p:blipFill>
        <p:spPr>
          <a:xfrm>
            <a:off x="5232240" y="4114800"/>
            <a:ext cx="26416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d of Hoov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over initially sought solution through voluntary action, private chari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ntually aided farmers with Farm Board to buy surpluses and bankers with loans through Reconstruction Finance Corpo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nus Army &amp; General MacArthu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sted Democratic efforts to give direct aid to the unemploy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ceived as  indifferent to human suffe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DR captures urban/farmer vo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DIVI7233566"/>
          <p:cNvPicPr/>
          <p:nvPr/>
        </p:nvPicPr>
        <p:blipFill>
          <a:blip r:embed="rId2"/>
          <a:stretch/>
        </p:blipFill>
        <p:spPr>
          <a:xfrm>
            <a:off x="228600" y="1905120"/>
            <a:ext cx="3824280" cy="4124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DIVI7233TB2601"/>
          <p:cNvPicPr/>
          <p:nvPr/>
        </p:nvPicPr>
        <p:blipFill>
          <a:blip r:embed="rId3"/>
          <a:stretch/>
        </p:blipFill>
        <p:spPr>
          <a:xfrm>
            <a:off x="4343400" y="1905120"/>
            <a:ext cx="457992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Hundred D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DR inaugural inspired with the term “nothing to fear, but fear itself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nking system saved from collap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een major laws provided relie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ennessee Valley Authority was the most ambitious 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w Deal aimed to reform and restore, not nationalize, the econom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DIVI7233568"/>
          <p:cNvPicPr/>
          <p:nvPr/>
        </p:nvPicPr>
        <p:blipFill>
          <a:blip r:embed="rId3"/>
          <a:stretch/>
        </p:blipFill>
        <p:spPr>
          <a:xfrm>
            <a:off x="4572000" y="2133720"/>
            <a:ext cx="4267080" cy="37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osevelt Recovery/Relief/Re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7621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osevelt and Recovery 1933-193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mulate codes for industry, labor, and agricultur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94320" indent="-198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RA, Wagner Act, AAA, etc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osevelt and Relief 1935-193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t people back to 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94320" indent="-19872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VA, CCC, WPA, etc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osevelt and Reform 1933-193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cus on immediate problems in banking and financ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94320" indent="-198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DIC, SEC, FCC, etc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1935 FDR started shift to a economic reform “broker state” to end historical inequities in American lif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94320" indent="-198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SA, Wagner Act, NLRB, etc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d the New Deal Work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7" descr="DIVI7233562"/>
          <p:cNvPicPr/>
          <p:nvPr/>
        </p:nvPicPr>
        <p:blipFill>
          <a:blip r:embed="rId2"/>
          <a:stretch/>
        </p:blipFill>
        <p:spPr>
          <a:xfrm>
            <a:off x="762120" y="1981080"/>
            <a:ext cx="761976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New Deal and American Lif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w Deal’s limit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pression not end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conomic system not fundamentally altere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ttle done for those without political clo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ial Security, the Wagner Act, Security Exchange Act, etc…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litical realignment of the 1930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conomy Appears Health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2"/>
          <a:srcRect l="-9940" t="0" r="-9940" b="0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Hoover takes office, the economy looks to be in fine sha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1929, stock values hit 87 bill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realty the economy is headed toward disast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even Prosper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Content Placeholder 4" descr="TASv3_220106C.jpg"/>
          <p:cNvPicPr/>
          <p:nvPr/>
        </p:nvPicPr>
        <p:blipFill>
          <a:blip r:embed="rId2"/>
          <a:srcRect l="-82187" t="0" r="-82187" b="0"/>
          <a:stretch/>
        </p:blipFill>
        <p:spPr>
          <a:xfrm>
            <a:off x="380880" y="1523880"/>
            <a:ext cx="4759560" cy="5334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ich got richer, poor got poor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p 1% (24,000) of the population incomes rose by 75%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70% of the population made less then 2,500 a year (minimum amount for a decent standard of liv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fits should have been used to increase wag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uying on Cred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ople bought radios, refrigerators, and other new products they could not affo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tallment plans made expensive items look irresisti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was a huge increase in personal deb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0% of people had no sav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ying the Stock Mark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eople began (speculating) playing the stock marke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ny bought on margin-Purchase a stock for only a fraction of its price (10%) and borrow the re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rokers charged a HIGH interest rates and could demand repayment at any ti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Content Placeholder 7" descr="TASv3_220107C.jpg"/>
          <p:cNvPicPr/>
          <p:nvPr/>
        </p:nvPicPr>
        <p:blipFill>
          <a:blip r:embed="rId2"/>
          <a:stretch/>
        </p:blipFill>
        <p:spPr>
          <a:xfrm>
            <a:off x="4648320" y="1569960"/>
            <a:ext cx="37335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o many Goods, too little Dem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ductivity increased 43%, wages only by 11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rehouses held piles of surplus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erproduction caused some industries to slow in the late 1920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 production led to layoff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using market slows to a stand stil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dships of Farmers and Work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ces of wheat, cotton, and other farm goods plummeted making it hard for farmers to repay loans they took out during WW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cNary-Haugen Bill (price-supports) is vetoed by Coolid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ustbowl hits Midwest farmers in the 30’s compou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ock Market Crashes 192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44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w Jones Industrial Average was the most widely used barometer of the health of econom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vestors start to pull/sell stock sending out a panic among rest of the investors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lack Thursday (10/2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lack Tuesday (10/2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verall losses is 30 billion doll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ample-GE was $400 a share and dropped to $28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/2 of all banks close due to bankruptcy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ll be a severe economic decline that will last from 1929 until WWII throughout the wor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26"/>
              </a:spcBef>
              <a:buClr>
                <a:srgbClr val="ff2b0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26"/>
              </a:spcBef>
              <a:buClr>
                <a:srgbClr val="ff2b0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3"/>
          <a:stretch/>
        </p:blipFill>
        <p:spPr>
          <a:xfrm>
            <a:off x="4640400" y="2133720"/>
            <a:ext cx="4198680" cy="3657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DIVI550"/>
          <p:cNvPicPr/>
          <p:nvPr/>
        </p:nvPicPr>
        <p:blipFill>
          <a:blip r:embed="rId4"/>
          <a:stretch/>
        </p:blipFill>
        <p:spPr>
          <a:xfrm>
            <a:off x="4572000" y="2209680"/>
            <a:ext cx="426708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lain how these indicators from the great depression RELATE to each other and show the severity of the economic downturn during the 1930’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8" descr="TASv3_220109Ca"/>
          <p:cNvPicPr/>
          <p:nvPr/>
        </p:nvPicPr>
        <p:blipFill>
          <a:blip r:embed="rId2"/>
          <a:stretch/>
        </p:blipFill>
        <p:spPr>
          <a:xfrm>
            <a:off x="304920" y="3657600"/>
            <a:ext cx="2617560" cy="2743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TASv3_220109Cb"/>
          <p:cNvPicPr/>
          <p:nvPr/>
        </p:nvPicPr>
        <p:blipFill>
          <a:blip r:embed="rId3"/>
          <a:stretch/>
        </p:blipFill>
        <p:spPr>
          <a:xfrm>
            <a:off x="6238800" y="3657600"/>
            <a:ext cx="2476440" cy="2590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TASv3_220109Cc"/>
          <p:cNvPicPr/>
          <p:nvPr/>
        </p:nvPicPr>
        <p:blipFill>
          <a:blip r:embed="rId4"/>
          <a:stretch/>
        </p:blipFill>
        <p:spPr>
          <a:xfrm>
            <a:off x="3200400" y="3657600"/>
            <a:ext cx="25495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6T14:44:42Z</dcterms:created>
  <dc:creator>Joshua Black</dc:creator>
  <dc:description/>
  <dc:language>en-US</dc:language>
  <cp:lastModifiedBy>Thaddeus J. Brooks</cp:lastModifiedBy>
  <dcterms:modified xsi:type="dcterms:W3CDTF">2013-10-28T14:17:40Z</dcterms:modified>
  <cp:revision>44</cp:revision>
  <dc:subject/>
  <dc:title>Reasons For Crash</dc:title>
</cp:coreProperties>
</file>